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D19-D2E1-4FB8-8CF7-7AD0B6DC22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ACAC-CDC3-40FA-9794-32AFD8CA2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E15D-C8F4-4230-AF73-ACEA6B197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A61F-B44D-4BBD-B6DE-09926581B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E766-C9D0-4679-A9AC-AA32FE95C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5006-FFD6-4659-9A22-BBDEEA416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BA0B-AA56-4FE1-88EB-E7FE72E29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46BF-151C-4A19-886E-7C5D64AC6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BD82-ABC9-4FDD-B571-5CA7EC42DD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85B3-9ABB-4245-8015-340D8837D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32CE-E272-4F39-AF58-CF8C4AB710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3FD-9A18-45F8-96D1-6D742C5C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160-FDB8-48F3-B66E-2A5A156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D232A-9623-41CD-98D8-00985E26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17A78-3B56-463E-9BAE-8A665322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1E648-4830-4C36-B9FC-195A74C6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DD500-CEF1-4B8D-B7B2-FE54779C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28DDA-DBB8-4CC6-8333-EE6B4108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E2CA0-6A90-4726-B820-1B0F7E9D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110AA-6AE4-41F5-AA84-A61866D7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E08C3-53DF-4510-A482-F2E80A84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B351F-2B93-4E83-9402-EDC78AAE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016E9-97EC-4B57-BA9A-310A7DFE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CCB-0684-4F0D-9244-5F1DDBA8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EBDE0-9128-4DC4-B120-4ABAD41A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F2C51-5BA8-480F-9891-D7016D3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86221-6DC2-419F-990D-AFCA6DC4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A1512-17C8-4859-A9B3-AFE9F0B0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EE2B5-0D36-4A42-92E7-AF267AD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47429-D746-4631-92B8-590003A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ADE60-46A8-47D0-A0F9-A2DCC03A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67513-7037-43C7-9850-F7FAD601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D6C3D-051A-4C2B-862A-3A907168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9633E-866C-4E3E-80C8-223F6BE1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F78-102C-4CC7-A853-EE5A930D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03BAF-9567-4CAD-8EE8-7C8357DE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DB04A-57A0-4451-A93F-31ABE7D4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86935-9EA5-4370-BC8C-1F4EC866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1E884-77F7-46ED-8948-0DBE865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308FC-8E0F-4A4A-A38A-AC6F2CE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E06F5-8BAD-4A70-9FB6-5F64B39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6E3B4-768B-45E7-9D96-74415F8F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80329-0D7D-4C67-B9ED-A5F7D07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E922D-620A-42EC-BCDB-8D5466F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0867A-3854-4D72-8AEE-7ECD431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ED98-0A47-4590-9F30-8B393301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DC68B-4C99-4B5D-B816-C2252F8B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CFE59-F6DE-4732-A2CF-C5FA1164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CDAE9-F205-4B87-A269-A0DC75F9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1D8FD-092E-468A-B4D3-D129B33F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D65CC-7314-42C5-B5B6-3480116C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4DFC9-DEFC-4ACA-9C7A-F6FEF7B2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C06A0-7747-4458-A33D-F7AB234F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41DB9-98C3-4B45-AA32-0BD52F29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30D1B-7C7B-42B5-9E51-0E9E71D4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7F178-7655-4C5B-97D6-A23C8BEF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182C-9756-4BB3-A81D-0E8A0512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11654-1420-4A09-BF4F-956CF9E7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04B85-8B76-4AFE-A0C1-057F727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8300B-075B-47AD-9AA8-7F631FFE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3FED3-E814-4A57-8438-E853DF6E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F50D1-09F9-470F-8C0B-95BAB271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43BF5-3E79-40BC-8CD2-3E1D5BA1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43530-10CD-4790-A06A-9479A9E8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84F1F-21F1-42F6-B894-7EA4B828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80551-2A1E-498C-969B-902CE53F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A1C0F-89C0-490D-B296-55604FEC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2797-0193-4432-B296-2EEBC2BA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A71AF-D7C3-4ECE-B597-E266EB5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CB635-B894-430B-BB2E-E98CDA2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CA8F5-5D6E-4793-B43A-8A5A199B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AB842-EE89-439D-A824-8290C889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3389D-2448-43A5-87C2-F8C165A2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7E6DF-9609-4E4F-8798-2AD6E956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2860C-61DB-41E6-BEC7-E077E10F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1E395-1333-4401-BEA4-C1E543C9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3107B-3B51-4358-AD9D-FC71294D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09364-3362-46EC-B121-D90166C6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5BA7-8A18-4544-9C69-41774FD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193E1-0B9A-4C4B-AD52-4DCA9849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8D11D-DAE0-4E96-90AD-FCCD47E1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98543-6632-468B-A854-CF26410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88A82-E8B4-461C-B622-06160C4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B9302-1E54-40E2-B755-ADDAE8D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BCD07-E56E-4919-8BD9-4865B2C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187DF-83E2-455A-BA5A-E18C0085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7DAEB-9325-4E14-A212-E8DCDC0E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335B8-CE23-4850-A65D-C4DBB1EF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9035-CF83-42BD-8354-006D7452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BD00-504B-4B21-B9C4-9C5F15DE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4C0F-2630-493F-9686-018AC981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069-C194-4475-B388-814086AA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85B4-E098-4802-9C46-5D17452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371C-CA38-4FC6-94B2-522EB74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7FB8-C292-4F4B-A805-8453C987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50E6-5807-4AB2-9D5C-D905309A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D427-8148-4AB6-B7ED-947313A6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3C26-C92A-4B78-9490-FD9C0C48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2C93F-B90F-4EEA-A441-A338ECCE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1A784-8229-4173-9B11-155BE8F5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C315-9804-442C-A5A5-8D4ABC92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4DAE-BE87-49EB-B5D9-9AB97FC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C7F-7306-4BC9-91C5-4535CA72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8739-3379-4FA4-9E4D-5ED3185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C3DF-7EA7-453F-8CCB-A6DCBAC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7485-EB7E-480C-AEA8-C863968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A37A-FA05-4406-B893-171D362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92D0-8924-4009-AF54-2D6B323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59F93-447B-46B9-A0CD-8A5B3A20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DD06F-3650-41AC-AEF7-1A0E886C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27B0-D6FE-4681-BF4E-6B3741B6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55395-DB7A-492D-868C-39304AAF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5E65F-351D-4E64-8245-BEC745C7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388-6D08-495B-AF7D-DABBC177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5163-CC38-49E4-AB5F-050C0E5B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E00BA-27CA-4064-8040-ABAB82C1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DD7C4-1DE4-4070-8258-A74EF504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0D6DE-4115-4EAA-AF82-F4A8E1AE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185E-01C1-4E1D-903A-8EED2C6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DEF9-30B5-4437-B0B9-587904F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A3E7-C9DB-4136-9A5B-249E13CB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37A3-46F1-405D-BF6C-F06D5F56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181D-05B1-4E6E-A644-CA4B9116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F028-74AF-4A5B-8FE4-A5D3D465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E95-9FDB-4CE4-8E5F-DCA745AA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2FB2-C63F-4FC5-9321-79AF294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BA84-C6A1-4FEE-AEA4-F12FB4D7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BA633-1146-4448-9C4A-EA7098E6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A7E3-189F-4811-8B59-4360C61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73A0-27CB-4365-8D62-08A18027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D9331-3463-41D7-9717-22D4BA4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E2EA-3A1A-4830-A162-9F8BABC4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F36DC-38B2-4868-9512-B632927D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32BC-66AF-4F40-A331-C16D75A2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FAF1-C139-47B3-BB52-D5A42448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233-145A-43A8-AEA3-4E3B8815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F5A9C-5D14-48A8-92AF-1E0E70B6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C704A-A90A-420A-93D2-EEC69BB1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88991-8F5F-4CFC-89E9-D917CDC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A07B7-04CB-467A-91C0-C768B275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3862C-984D-4BCC-85DA-2259E56F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7C779-FB07-4491-9B0C-DDD724C8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9258-8F60-4B52-B89D-5588EC3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34054-381A-4A14-8296-7F123CA2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2FE5-3181-4D09-9494-D70947B1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1DCF-ACDE-47C8-9091-A63EDC0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C5E-2145-4387-AF81-4C52BBD7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9C4E-A2A1-4FFC-B133-1CDC0675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F2B0-A375-46E5-B707-2E443F4F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23F71-1D9A-49F4-AF25-5DC4B73D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C0823-4F89-41E8-93B8-54453AC1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ECC1-3EBB-48A0-ABBD-F29A7A73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C40F7-3267-4CF6-8394-8E536ADD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9C379-7E59-4E25-9DD0-405D574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1D987-C9AE-4B3D-8B15-9B649F8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C2E89-6C83-4E41-B5FA-DBEA5913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F1467-9089-468C-B18C-372109F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701-6ACE-43EF-A626-542C26B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6134-329B-4285-8F7D-22F3BA6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F3AB-EEE8-40B5-A0FC-272FCA9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4C32-15DA-423E-9D79-6236570A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72875-6AF0-4265-829A-D75C55E6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FA8DD-E5A5-498C-B3C7-D94CB1C7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2B4D4-C508-4B92-BAC9-8DF05374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F7DC3-DA7C-4757-8917-189D76AF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2E2DE-27E9-4451-92E2-51EB814B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22EE7-3E51-4AD6-B987-5F0B6C38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A69B8-3962-465D-832B-309F4327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994-FC44-4783-B98E-D0B2410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323E3-0F3A-4406-95D7-516CDFBC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E298D-BA8A-4461-A8E2-82973E05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7A492-417C-4E8D-9BE6-861A4F2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6CB3A-B8F7-497E-BC08-5C263D0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BB196-AEB1-4054-8CDF-B565E47D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CC466-C984-4863-9907-181C27E0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B817-A55A-4EDA-A094-0BF52E4F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B11CC-87D8-47D6-9529-D096B3E3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BD175-8AB6-4090-B0B9-BC3CC30C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A270E-74B0-4AE3-8B7F-20EB1367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D632-8629-40CB-854C-FBDE37B7CEB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CACB-066E-49D0-A732-25EC5FFB6D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BE83-BB57-4327-A935-B6CFB579020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125-32EE-4C07-97F1-D79A65D65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4522-04B1-40C6-B963-8CD739A0914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8836-724D-4644-B7F8-D7E3F13960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70A4-D9C5-4445-9A8B-CEDC3DEA718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A7AC-AF29-4468-B941-75F2EFD934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BCEB-76C7-45F5-A68B-D282E3AE75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FE47-64CF-4CD9-94C7-2AD201305C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8FE8-3E90-47D1-9549-09066D412DF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8D20-12DA-48D4-8617-2FD35BEBE5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8DCF-8A7B-4866-BB56-DFCABACCFE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4BDD-25F7-4646-A339-4DDD5BB4A2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28CB-7DE8-4EF7-A558-CCBC30C33D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B7DE-C6C9-47D6-8B16-ABC1455783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5D9F-98C6-439F-B7F7-164E5ED3B5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A87A-ADB7-4FE2-9F2F-2C82B277A6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E70B-77CB-44B1-8299-52FAB6EE5A3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E40D-5EA5-48C1-B439-A81B3E677E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33D7-CFE6-4D61-9B6F-9A76218EE2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5495-5CE9-4828-BA52-2B78E9A917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4B04-A1A2-495E-8D24-AABE82670DB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8757-5860-4FC5-91B8-B99146F17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1A1E-0C6C-49C9-8AC5-B7FA813069F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0CFB-131C-42A4-8EFC-DB7B69210E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7676"/>
            </a:gs>
            <a:gs pos="50000">
              <a:srgbClr val="8fffff"/>
            </a:gs>
            <a:gs pos="100000">
              <a:srgbClr val="42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E2D7-18DA-4665-B53E-84D159EA98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ECA-529A-44D8-AD7D-A6D09BC94A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AAF8-DF03-4EA2-A67D-A6FBAD10A5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МЧС-2-б"/>
          <p:cNvPicPr/>
          <p:nvPr/>
        </p:nvPicPr>
        <p:blipFill>
          <a:blip r:embed="rId1"/>
          <a:stretch/>
        </p:blipFill>
        <p:spPr>
          <a:xfrm>
            <a:off x="-777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2"/>
          <p:cNvSpPr/>
          <p:nvPr/>
        </p:nvSpPr>
        <p:spPr>
          <a:xfrm>
            <a:off x="145440" y="641520"/>
            <a:ext cx="887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ЧС Беларуси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ффективная коммуникация в социальных се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омер слайда 6"/>
          <p:cNvSpPr/>
          <p:nvPr/>
        </p:nvSpPr>
        <p:spPr>
          <a:xfrm>
            <a:off x="6804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17D8-118A-4F66-A087-71DEE42CE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Рисунок 1" descr=""/>
          <p:cNvPicPr/>
          <p:nvPr/>
        </p:nvPicPr>
        <p:blipFill>
          <a:blip r:embed="rId2"/>
          <a:stretch/>
        </p:blipFill>
        <p:spPr>
          <a:xfrm>
            <a:off x="684360" y="1596960"/>
            <a:ext cx="761976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6249-025E-4F1C-9FA5-8B9DF1B66729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МЧС-2-б"/>
          <p:cNvPicPr/>
          <p:nvPr/>
        </p:nvPicPr>
        <p:blipFill>
          <a:blip r:embed="rId1"/>
          <a:stretch/>
        </p:blipFill>
        <p:spPr>
          <a:xfrm>
            <a:off x="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1"/>
          <p:cNvSpPr/>
          <p:nvPr/>
        </p:nvSpPr>
        <p:spPr>
          <a:xfrm>
            <a:off x="286560" y="2583000"/>
            <a:ext cx="8570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Arial"/>
              </a:rPr>
              <a:t>Благодарю за внимание!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F10-7640-403E-A85E-E02E967B3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1898280" y="4983120"/>
            <a:ext cx="5347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италий Новицкий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фициальный представитель МЧ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@112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7A7D-0227-4908-BA3C-38C93644654F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3" descr="МЧС-2-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9B1E-B6B4-4213-AAB5-9950215AD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2" descr=""/>
          <p:cNvPicPr/>
          <p:nvPr/>
        </p:nvPicPr>
        <p:blipFill>
          <a:blip r:embed="rId2"/>
          <a:stretch/>
        </p:blipFill>
        <p:spPr>
          <a:xfrm>
            <a:off x="1190520" y="569880"/>
            <a:ext cx="6762960" cy="5915160"/>
          </a:xfrm>
          <a:prstGeom prst="rect">
            <a:avLst/>
          </a:prstGeom>
          <a:ln w="0">
            <a:noFill/>
          </a:ln>
        </p:spPr>
      </p:pic>
      <p:sp>
        <p:nvSpPr>
          <p:cNvPr id="590" name="Номер слайда 1"/>
          <p:cNvSpPr/>
          <p:nvPr/>
        </p:nvSpPr>
        <p:spPr>
          <a:xfrm>
            <a:off x="2152800" y="6343560"/>
            <a:ext cx="6346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о-аналитический цент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Администрации Презид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0B23-A296-4A8E-864A-B443B0945123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МЧС-2-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64E5-205B-47FA-8E02-E20F354FA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Рисунок 1" descr=""/>
          <p:cNvPicPr/>
          <p:nvPr/>
        </p:nvPicPr>
        <p:blipFill>
          <a:blip r:embed="rId2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  <p:sp>
        <p:nvSpPr>
          <p:cNvPr id="595" name="Номер слайда 1"/>
          <p:cNvSpPr/>
          <p:nvPr/>
        </p:nvSpPr>
        <p:spPr>
          <a:xfrm>
            <a:off x="2165400" y="5969160"/>
            <a:ext cx="6346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о-аналитический цент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Администрации Презид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ADC5-6AB6-424B-B882-ECF93CB968BA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3" descr="МЧС-2-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F20-5812-4653-93B7-C6B88BCD0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Kniga1.mp4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7920000" cy="594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92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F604-A397-4F63-A512-81863DAF9CCA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МЧС-2-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7288-B1CD-48F4-A8ED-3730F5762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Рисунок 2" descr=""/>
          <p:cNvPicPr/>
          <p:nvPr/>
        </p:nvPicPr>
        <p:blipFill>
          <a:blip r:embed="rId2"/>
          <a:stretch/>
        </p:blipFill>
        <p:spPr>
          <a:xfrm>
            <a:off x="0" y="1271520"/>
            <a:ext cx="914400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6717-3DDC-4E46-8BED-0CE1F22F5951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3" descr="МЧС-2-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988D-8A4C-4349-9BDD-D7D5A7818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Рисунок 2" descr=""/>
          <p:cNvPicPr/>
          <p:nvPr/>
        </p:nvPicPr>
        <p:blipFill>
          <a:blip r:embed="rId2"/>
          <a:stretch/>
        </p:blipFill>
        <p:spPr>
          <a:xfrm>
            <a:off x="0" y="851040"/>
            <a:ext cx="9144000" cy="257796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3" descr=""/>
          <p:cNvPicPr/>
          <p:nvPr/>
        </p:nvPicPr>
        <p:blipFill>
          <a:blip r:embed="rId3"/>
          <a:stretch/>
        </p:blipFill>
        <p:spPr>
          <a:xfrm>
            <a:off x="0" y="3629160"/>
            <a:ext cx="9144000" cy="2620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5C9E-9D21-498D-B3AA-C74F7545B2BA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МЧС-2-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EFD8-C0A0-4C43-A1D6-236F348CD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Рисунок 2" descr=""/>
          <p:cNvPicPr/>
          <p:nvPr/>
        </p:nvPicPr>
        <p:blipFill>
          <a:blip r:embed="rId2"/>
          <a:stretch/>
        </p:blipFill>
        <p:spPr>
          <a:xfrm>
            <a:off x="801720" y="614520"/>
            <a:ext cx="7591320" cy="585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4A43-BD79-4550-A63F-C37BC24E47B1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3" descr="МЧС-2-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E36B-4A6C-43C3-B56F-65BD355D0E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2" descr=""/>
          <p:cNvPicPr/>
          <p:nvPr/>
        </p:nvPicPr>
        <p:blipFill>
          <a:blip r:embed="rId2"/>
          <a:stretch/>
        </p:blipFill>
        <p:spPr>
          <a:xfrm>
            <a:off x="1943280" y="142920"/>
            <a:ext cx="525780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омер слайда 2"/>
          <p:cNvSpPr/>
          <p:nvPr/>
        </p:nvSpPr>
        <p:spPr>
          <a:xfrm>
            <a:off x="6556320" y="624852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E1EF-8C19-490B-B53D-EE5C4DD6DDC7}" type="slidenum">
              <a:rPr b="0" lang="ru-RU" sz="1200" spc="-1" strike="noStrike">
                <a:solidFill>
                  <a:srgbClr val="0070c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МЧС-2-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5DAB-CCA1-4C5A-9FCF-841292B0B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Рисунок 1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9:43:53Z</dcterms:created>
  <dc:creator>User</dc:creator>
  <dc:description/>
  <dc:language>en-US</dc:language>
  <cp:lastModifiedBy>Виталий В. Новицкий</cp:lastModifiedBy>
  <dcterms:modified xsi:type="dcterms:W3CDTF">2017-02-27T14:33:08Z</dcterms:modified>
  <cp:revision>1186</cp:revision>
  <dc:subject/>
  <dc:title>Слайд 1</dc:title>
</cp:coreProperties>
</file>